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26A-1745-446B-BBF9-F133E69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6D1-B039-44C1-82F7-2244C2F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081-B20A-4283-9AFC-023495E3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CB7-93EC-4ADF-BC8C-48BE33AF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F3B-88F0-4E24-BE16-8695EC7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190-86B2-42B3-83FA-3E1B71B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3F0-6F9E-487B-AC0E-2D59B78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C3A-81A7-4DCE-AC42-C1153787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EDB-9B8B-42B3-89E6-207C0C8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6AA-50ED-4454-B7F2-67E4407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9DE-0435-4C48-8EB5-E4D9F86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864-4D22-4379-A52C-A68B999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30C-D178-40E0-82A3-D1BD1126C7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4:37:35Z</dcterms:created>
  <dc:creator>jmchoi</dc:creator>
  <dc:description/>
  <dc:language>en-US</dc:language>
  <cp:lastModifiedBy>jmchoi</cp:lastModifiedBy>
  <dcterms:modified xsi:type="dcterms:W3CDTF">2004-01-16T06:56:38Z</dcterms:modified>
  <cp:revision>2</cp:revision>
  <dc:subject/>
  <dc:title>PowerPoint 프레젠테이션</dc:title>
</cp:coreProperties>
</file>